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3AE6-B679-41FF-B0C5-7DFD043F4F2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A1E6-041A-4BD0-B1A3-ACC185DE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212D-8925-439D-96CD-7FE4F90F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C92B-1AF0-4FFA-9CCC-5CE48F58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E3E-3AF5-4FD2-BDE3-BAF87D80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048-79C5-4FC9-8A1F-4CE7659F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15F2-19DC-46BB-AFB5-A4205F2F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C231-13D8-4902-AB0A-791879F6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643-DB24-410A-93C1-6FC7C54F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19CE-A5B2-4376-825A-7DA5BA94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FFEB-68A6-4544-8A88-2A840311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F03D-2083-44CC-8E20-C24751B4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8F8A-6E06-4A00-A497-B1C23313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CBAC-B5B8-4C6C-9EC0-675587B9CC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star.rdfz.cn/Resource/gz/GZYY/NEW2/bkzs/C1/246_sr.htm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4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182880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re they talking abou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20040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ir plan for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68680" y="1397160"/>
            <a:ext cx="117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1371600"/>
            <a:ext cx="624816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____ we buy some f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nd chips t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I think that’s a good id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Sure! And we’d 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ake our hats. The Su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s bu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5760" y="3530520"/>
            <a:ext cx="1348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57600" y="1143000"/>
            <a:ext cx="151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2840" y="1981080"/>
            <a:ext cx="33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River N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8320" y="2666880"/>
            <a:ext cx="173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560" y="3581280"/>
            <a:ext cx="347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High D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5640" y="4572000"/>
            <a:ext cx="47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</a:rPr>
              <a:t>Abu Simbel Te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371600"/>
            <a:ext cx="56390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hat’s the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etween the High D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nd Abu Simbel Tem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86200"/>
            <a:ext cx="5562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main idea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whole fil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905120" y="838080"/>
            <a:ext cx="6172200" cy="5050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560" y="3352680"/>
            <a:ext cx="461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Abu Simbel Temple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on the edge of the Hi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D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121932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hat’s the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etween the High D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nd Abu Simbel Tem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28800" y="35053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building of the Aswan High D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44792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main idea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whole fil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81080" y="1752480"/>
            <a:ext cx="41911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Narrow"/>
                <a:ea typeface=""/>
              </a:rPr>
              <a:t>Why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was the H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Dam built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33720" y="1676520"/>
            <a:ext cx="541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flood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large are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destroy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houses &amp; crop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control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wa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ru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regular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 produc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electric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2590920"/>
            <a:ext cx="5257800" cy="28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is built fo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1. controlling the wa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f the Ni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2. producing electri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14300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"/>
              </a:rPr>
              <a:t>Why was the High Dam built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47920" y="289548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are talking about the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lan for their tri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14479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are they talking abou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/>
          </p:cNvPr>
          <p:cNvSpPr/>
          <p:nvPr/>
        </p:nvSpPr>
        <p:spPr>
          <a:xfrm>
            <a:off x="36813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717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71600" y="1447920"/>
            <a:ext cx="6477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dam, which is the biggest in the world, is _____ metres lo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t is ___ metres wide at the base and ___metres wide at the top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lake that has been made by the dam is about ___ kilometres lo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120" y="200988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,8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70160" y="253368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9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70520" y="31431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08440" y="42102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22600" y="1368360"/>
            <a:ext cx="292392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re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roble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57400" y="2133720"/>
            <a:ext cx="4495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rise by 63 metr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move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date fro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o be in dan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33480" y="1371600"/>
            <a:ext cx="577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were the proble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133720"/>
            <a:ext cx="52290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problems we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1. to move lots of peo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n this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tT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temples there w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n da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600200" y="1371600"/>
          <a:ext cx="3048120" cy="201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71600"/>
                    <a:ext cx="30481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800600" y="1371600"/>
          <a:ext cx="3048120" cy="1981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371600"/>
                    <a:ext cx="3048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800600" y="3657600"/>
          <a:ext cx="3124080" cy="1892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657600"/>
                    <a:ext cx="31240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676520" y="3657600"/>
          <a:ext cx="2971800" cy="19051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657600"/>
                    <a:ext cx="2971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505320" y="1676520"/>
            <a:ext cx="290808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447920" y="1066680"/>
          <a:ext cx="6248160" cy="4367160"/>
        </p:xfrm>
        <a:graphic>
          <a:graphicData uri="http://schemas.openxmlformats.org/drawingml/2006/table">
            <a:tbl>
              <a:tblPr/>
              <a:tblGrid>
                <a:gridCol w="1989000"/>
                <a:gridCol w="2200320"/>
                <a:gridCol w="2058840"/>
              </a:tblGrid>
              <a:tr h="620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l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son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r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o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5792760" y="121932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an-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40480" y="1927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River N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1720" y="2666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19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2760" y="327672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360" y="40384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4648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ve people &amp;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00560" y="1219320"/>
            <a:ext cx="422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pic sentenc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4290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in the middle of the paragrap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2096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 the beginning of the paragrap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648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at the end of the para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152388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514600"/>
            <a:ext cx="655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P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90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 Ex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8160" y="1116000"/>
            <a:ext cx="26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86440" y="3657600"/>
            <a:ext cx="576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 to search for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n the Three Gorges D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4120" y="2790720"/>
            <a:ext cx="59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are going to go boat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n the River Nile, and then g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for a walk round Asw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3716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ir plan for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28800" y="1219320"/>
            <a:ext cx="60199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r. Whi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visit the city of Asw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take a boat to the tem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go for a walk round Aswan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182880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rs. White: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do some sh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62320" y="1828800"/>
            <a:ext cx="510516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Pipp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ke a boat on the Nile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08040" y="177336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286000"/>
            <a:ext cx="54100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ob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 visit the High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76520" y="1600200"/>
            <a:ext cx="5943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shall we do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ybe we could visit…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'd prefer/like to visit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n't we visit…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ou'd better take…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00200" y="1219320"/>
            <a:ext cx="61722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Where _____we eat ou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ad: Maybe we  ______  f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 restaurant near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n: I’d ____ to have a picni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6600" y="1219320"/>
            <a:ext cx="109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31000" y="2514600"/>
            <a:ext cx="124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u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4840" y="4572000"/>
            <a:ext cx="891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7:04:02Z</dcterms:created>
  <dc:creator>GuoMei</dc:creator>
  <dc:description/>
  <dc:language>en-US</dc:language>
  <cp:lastModifiedBy>潘雪蓉</cp:lastModifiedBy>
  <dcterms:modified xsi:type="dcterms:W3CDTF">2003-06-03T02:22:11Z</dcterms:modified>
  <cp:revision>389</cp:revision>
  <dc:subject/>
  <dc:title>PowerPoint 演示文稿</dc:title>
</cp:coreProperties>
</file>